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9.pct" ContentType="image/x-pict"/>
  <Override PartName="/ppt/media/image23.gif" ContentType="image/gif"/>
  <Override PartName="/ppt/media/image22.gif" ContentType="image/gif"/>
  <Override PartName="/ppt/media/image28.gif" ContentType="image/gif"/>
  <Override PartName="/ppt/media/image5.gif" ContentType="image/gif"/>
  <Override PartName="/ppt/media/image6.pct" ContentType="image/x-pict"/>
  <Override PartName="/ppt/media/image31.pct" ContentType="image/x-pict"/>
  <Override PartName="/ppt/media/image10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11.gif" ContentType="image/gif"/>
  <Override PartName="/ppt/media/image30.pct" ContentType="image/x-pict"/>
  <Override PartName="/ppt/media/image32.pct" ContentType="image/x-pict"/>
  <Override PartName="/ppt/media/image4.gif" ContentType="image/gif"/>
  <Override PartName="/ppt/media/image27.gif" ContentType="image/gif"/>
  <Override PartName="/ppt/media/image33.gif" ContentType="image/gif"/>
  <Override PartName="/ppt/media/image3.gif" ContentType="image/gif"/>
  <Override PartName="/ppt/media/image26.gif" ContentType="image/gif"/>
  <Override PartName="/ppt/media/image2.gif" ContentType="image/gif"/>
  <Override PartName="/ppt/media/image25.gif" ContentType="image/gif"/>
  <Override PartName="/ppt/media/image21.pct" ContentType="image/x-pict"/>
  <Override PartName="/ppt/media/image1.gif" ContentType="image/gif"/>
  <Override PartName="/ppt/media/image24.gif" ContentType="image/gif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media/image20.gif" ContentType="image/gi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AFD1-5C25-4407-9B7B-F5F07E01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1870-C8F5-44F4-B7BB-84E8DC76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9693-5B1B-45F7-8DED-1A898E64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3074-24E2-4532-AE01-DBA764C6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7AD8-85E4-4E59-866E-0C0E6FDA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69B5-5F9E-4C3E-A519-B934DFAB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2B13-811D-46A5-B6D5-5CA18DF1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C82D-E233-4124-AA34-2B848589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EB0B-305E-45E5-8A7D-4C11ADAA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E2C7-8ACD-4475-B5C4-72457DE2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AC96-FB20-40DC-B35B-B5DDC873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9257-1AFD-4E7E-9DFF-33F78D4D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FA0E-2FCD-4E78-B666-C686D874A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31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32.pct"/><Relationship Id="rId7" Type="http://schemas.openxmlformats.org/officeDocument/2006/relationships/image" Target="../media/image33.gi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This is the King of “ing” 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8580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33177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Here comes the nice twins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O-O o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They are going to sch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oo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234324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143000" y="2743200"/>
            <a:ext cx="30924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W-H     wh, wh, w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t’s a question word…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w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o       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w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t        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w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  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w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re         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w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y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w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c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714600" cy="1524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153280" y="3809880"/>
            <a:ext cx="714600" cy="1524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514600" y="3962520"/>
            <a:ext cx="714240" cy="1523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5105520" y="3809880"/>
            <a:ext cx="714240" cy="1524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7924680" y="2362320"/>
            <a:ext cx="714600" cy="1523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5257800" y="2286000"/>
            <a:ext cx="71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294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ar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, c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r         c-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a-r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stick you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ar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m in a j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ar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of st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ar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s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-r 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ar, ar, a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-r 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ar, ar, 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3809880"/>
            <a:ext cx="4854600" cy="2078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150480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O-r    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or, or, or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O-r    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 or, or, or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 want m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or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 fis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32716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ui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w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      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ui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w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n the middle of a wo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28800" y="28954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09680" y="5105520"/>
            <a:ext cx="23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fr</a:t>
            </a:r>
            <a:r>
              <a:rPr b="1" lang="en-US" sz="4800" spc="-1" strike="noStrike">
                <a:solidFill>
                  <a:srgbClr val="ff0000"/>
                </a:solidFill>
                <a:latin typeface="Century Gothic"/>
              </a:rPr>
              <a:t>ui</a:t>
            </a: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18320" y="51814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j</a:t>
            </a:r>
            <a:r>
              <a:rPr b="1" lang="en-US" sz="4800" spc="-1" strike="noStrike">
                <a:solidFill>
                  <a:srgbClr val="ff0000"/>
                </a:solidFill>
                <a:latin typeface="Century Gothic"/>
              </a:rPr>
              <a:t>ui</a:t>
            </a: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ew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w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      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ew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w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t the end of a wo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5334120"/>
            <a:ext cx="23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n-US" sz="4800" spc="-1" strike="noStrike">
                <a:solidFill>
                  <a:srgbClr val="ff0000"/>
                </a:solidFill>
                <a:latin typeface="Century Gothic"/>
              </a:rPr>
              <a:t>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5334120"/>
            <a:ext cx="2808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st</a:t>
            </a:r>
            <a:r>
              <a:rPr b="1" lang="en-US" sz="4800" spc="-1" strike="noStrike">
                <a:solidFill>
                  <a:srgbClr val="ff0000"/>
                </a:solidFill>
                <a:latin typeface="Century Gothic"/>
              </a:rPr>
              <a:t>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25160" y="52578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fl</a:t>
            </a:r>
            <a:r>
              <a:rPr b="1" lang="en-US" sz="4800" spc="-1" strike="noStrike">
                <a:solidFill>
                  <a:srgbClr val="ff0000"/>
                </a:solidFill>
                <a:latin typeface="Century Gothic"/>
              </a:rPr>
              <a:t>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359160" y="2743200"/>
            <a:ext cx="2038320" cy="2514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3276720"/>
            <a:ext cx="2944800" cy="1469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257800" y="3048120"/>
            <a:ext cx="36036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e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You take a scaredy cat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e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.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You take a scaredy cat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ut them together and what do they say?   EEEEEEEEEEE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1057320" cy="1600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600200" y="4038480"/>
            <a:ext cx="1197000" cy="1470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46440" y="5638680"/>
            <a:ext cx="27410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en-US" sz="4800" spc="-1" strike="noStrike">
                <a:solidFill>
                  <a:srgbClr val="ff0000"/>
                </a:solidFill>
                <a:latin typeface="Century Gothic"/>
              </a:rPr>
              <a:t>ea</a:t>
            </a: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c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556272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ice cr</a:t>
            </a:r>
            <a:r>
              <a:rPr b="1" lang="en-US" sz="4800" spc="-1" strike="noStrike">
                <a:solidFill>
                  <a:srgbClr val="ff0000"/>
                </a:solidFill>
                <a:latin typeface="Century Gothic"/>
              </a:rPr>
              <a:t>ea</a:t>
            </a: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ome letters </a:t>
            </a: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-y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say </a:t>
            </a: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, A, A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Y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do you want to pl</a:t>
            </a: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y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wish, score, hoor</a:t>
            </a: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y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!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But don’t forget this….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Some letters </a:t>
            </a: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-y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say </a:t>
            </a: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, A, A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t the end of a word an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don’t you forget it!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4419720"/>
            <a:ext cx="23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pl</a:t>
            </a:r>
            <a:r>
              <a:rPr b="1" lang="en-US" sz="4800" spc="-1" strike="noStrike">
                <a:solidFill>
                  <a:srgbClr val="ff0000"/>
                </a:solidFill>
                <a:latin typeface="Century Gothic"/>
              </a:rPr>
              <a:t>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0880" y="5334120"/>
            <a:ext cx="2394000" cy="1280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29000" y="5257800"/>
            <a:ext cx="161280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e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When you see a double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ee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, you say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ee, ee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.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t’s a bumble b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ee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party!!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 e e e e 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 e e e e e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78080" y="5181480"/>
            <a:ext cx="1109520" cy="1219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91320" y="5029200"/>
            <a:ext cx="1179360" cy="129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49200" y="3809880"/>
            <a:ext cx="1201680" cy="1371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7502400" y="3581280"/>
            <a:ext cx="1135080" cy="129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886200" y="4191120"/>
            <a:ext cx="12682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a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aid to 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“Hey i, get out of my way!  I’m going to say ‘a’ today!”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o when you see ‘ai’ you say </a:t>
            </a: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‘A’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19920" y="609480"/>
          <a:ext cx="914400" cy="91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60948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514600" y="609480"/>
          <a:ext cx="914400" cy="914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60948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33520" y="4038480"/>
          <a:ext cx="1752480" cy="1752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038480"/>
                    <a:ext cx="17524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3657600" y="4191120"/>
            <a:ext cx="5092560" cy="895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38080" y="5867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n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ai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5562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r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ai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-n-g   i-n-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  ing, ing, 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3033720" cy="38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-l-l  a-l-l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all, all, 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544480" cy="1851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62320" y="2590920"/>
            <a:ext cx="2369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s-h  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sh,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sh, s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s-h  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sh,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sh, 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78152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4582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T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s is a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t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orn and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t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t is a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t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stle.   t-h    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t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t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th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              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t-h    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t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t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th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057400" y="2438280"/>
          <a:ext cx="172728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438280"/>
                    <a:ext cx="17272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t’s time to do the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c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cke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c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-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c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 dance…   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-h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c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c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ch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-h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c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c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3730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O-U       ou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o-u-t, o-u-t get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ou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t of here you bumble bee!  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Ou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1523880" cy="1307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52480" y="4343400"/>
            <a:ext cx="6172200" cy="1603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705720" y="457200"/>
            <a:ext cx="152388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O-W  ow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The c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ow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is going d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ow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D-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O-W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-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553536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Here comes the bully brothers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O-O o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They t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oo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k my b</a:t>
            </a:r>
            <a:r>
              <a:rPr b="1" lang="en-US" sz="4400" spc="-1" strike="noStrike">
                <a:solidFill>
                  <a:srgbClr val="ff0000"/>
                </a:solidFill>
                <a:latin typeface="Century Gothic"/>
              </a:rPr>
              <a:t>oo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05120" y="3200400"/>
            <a:ext cx="223020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876920" y="2971800"/>
            <a:ext cx="22478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1:00:18Z</dcterms:created>
  <dc:creator>Edgewood User</dc:creator>
  <dc:description/>
  <dc:language>en-US</dc:language>
  <cp:lastModifiedBy>Edgewood User</cp:lastModifiedBy>
  <cp:lastPrinted>2009-10-27T16:06:19Z</cp:lastPrinted>
  <dcterms:modified xsi:type="dcterms:W3CDTF">2009-11-02T13:18:01Z</dcterms:modified>
  <cp:revision>12</cp:revision>
  <dc:subject/>
  <dc:title>This is the King of “ing” Dance</dc:title>
</cp:coreProperties>
</file>